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DB2-A853-4B5F-A335-51E81B42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3F4-0EE1-456E-A45A-A2CAA5BD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44F-4698-4EB4-B8E4-BA974E66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C1A-869F-46B2-B562-8C3ACB13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2A3-427B-4514-A177-6CA848CA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D17-06B5-47BE-A82E-59D008AB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B03-1D56-4E87-BE81-7CA5D90D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672-1761-45C0-AD9A-DD2B7B63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A8A-CBBB-4F80-93E3-96DCAF5B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619-68C7-4005-B1E9-6C24CEB0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3F2-7958-4B72-8D3F-4FC2D195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53F-A872-484D-A494-EEF770E5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C505-1F43-4E4F-863B-433E92667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404640"/>
            <a:ext cx="669780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Georgia"/>
              </a:rPr>
              <a:t>Путешествие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Georgia"/>
              <a:ea typeface="Georg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529000">
            <a:off x="5866920" y="4292280"/>
            <a:ext cx="2376720" cy="633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861600">
            <a:off x="6803640" y="1915920"/>
            <a:ext cx="1285920" cy="194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0091600">
            <a:off x="1116000" y="4076280"/>
            <a:ext cx="165744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1762200">
            <a:off x="7884720" y="5876640"/>
            <a:ext cx="792360" cy="67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0824800">
            <a:off x="394920" y="2204640"/>
            <a:ext cx="2016000" cy="126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700360" y="1413000"/>
            <a:ext cx="36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cc"/>
                  </a:solidFill>
                  <a:miter/>
                </a:ln>
                <a:gradFill rotWithShape="0">
                  <a:gsLst>
                    <a:gs pos="0">
                      <a:srgbClr val="008080">
                        <a:alpha val="82352"/>
                      </a:srgbClr>
                    </a:gs>
                    <a:gs pos="100000">
                      <a:srgbClr val="003b3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 страну</a:t>
            </a:r>
            <a:endParaRPr b="0" lang="en-US" sz="1800" spc="1" strike="noStrike">
              <a:ln w="12600">
                <a:solidFill>
                  <a:srgbClr val="00ffcc"/>
                </a:solidFill>
                <a:miter/>
              </a:ln>
              <a:gradFill rotWithShape="0">
                <a:gsLst>
                  <a:gs pos="0">
                    <a:srgbClr val="008080">
                      <a:alpha val="82352"/>
                    </a:srgbClr>
                  </a:gs>
                  <a:gs pos="100000">
                    <a:srgbClr val="003b3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4724280"/>
            <a:ext cx="6696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cb4ae"/>
                  </a:solidFill>
                  <a:miter/>
                </a:ln>
                <a:solidFill>
                  <a:srgbClr val="ff6699"/>
                </a:solidFill>
                <a:latin typeface="Times New Roman"/>
              </a:rPr>
              <a:t>КомпьютериЯ!</a:t>
            </a:r>
            <a:endParaRPr b="1" lang="en-US" sz="1800" spc="1" strike="noStrike">
              <a:ln w="9360">
                <a:solidFill>
                  <a:srgbClr val="fcb4ae"/>
                </a:solidFill>
                <a:miter/>
              </a:ln>
              <a:solidFill>
                <a:srgbClr val="ff6699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 rot="21197400">
            <a:off x="3634920" y="2276640"/>
            <a:ext cx="17352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386080" cy="2021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780000" y="1413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9640" y="1844640"/>
            <a:ext cx="54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Мышь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устройство  предназначенное для быстрого перемещения по экрану и выбора нужн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763280" y="1844640"/>
            <a:ext cx="1584360" cy="504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4743360" cy="2971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900000" y="3645000"/>
            <a:ext cx="763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Принте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устройство предназначенное для вывода информации на бума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050920" y="2852640"/>
            <a:ext cx="3024360" cy="936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356000" y="2997360"/>
            <a:ext cx="453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Аппаратное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обеспечение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совокупность всех устройств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867120" cy="2945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88" name=""/>
          <p:cNvSpPr/>
          <p:nvPr/>
        </p:nvSpPr>
        <p:spPr>
          <a:xfrm flipH="1" flipV="1">
            <a:off x="4284360" y="2349000"/>
            <a:ext cx="1150920" cy="863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395520" cy="170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3024360" cy="172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3157" t="9551" r="0" b="0"/>
          <a:stretch/>
        </p:blipFill>
        <p:spPr>
          <a:xfrm>
            <a:off x="468360" y="2708280"/>
            <a:ext cx="3384360" cy="164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2026" t="3090" r="2257" b="2229"/>
          <a:stretch/>
        </p:blipFill>
        <p:spPr>
          <a:xfrm>
            <a:off x="5510160" y="260280"/>
            <a:ext cx="2806920" cy="2166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2879640" cy="1517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732720" y="5229360"/>
            <a:ext cx="144144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659640" y="4410000"/>
            <a:ext cx="1558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2924280"/>
            <a:ext cx="8459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это универсальное программно-управляемое устройство для работы с информаци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213372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Компью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27880" y="189000"/>
            <a:ext cx="1476360" cy="2087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2187720" cy="2112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2303640" cy="6145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24360" y="404640"/>
            <a:ext cx="4743360" cy="2971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684360" y="270828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Принтер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3789360"/>
            <a:ext cx="74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устройство предназначенное для вывода информации на бума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19280" y="2997360"/>
            <a:ext cx="705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это</a:t>
            </a: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знания и сведения об окружающем нас ми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916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14400" cy="4105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067280" y="765000"/>
            <a:ext cx="280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2205000"/>
            <a:ext cx="500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используется для длительного хранения больших объёмов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1125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Жесткий д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07640" y="1700280"/>
            <a:ext cx="2087640" cy="144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06920" y="2492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Аппаратное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обеспечение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867120" cy="2945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13" name=""/>
          <p:cNvSpPr/>
          <p:nvPr/>
        </p:nvSpPr>
        <p:spPr>
          <a:xfrm flipH="1" flipV="1">
            <a:off x="4284360" y="2349000"/>
            <a:ext cx="1150920" cy="863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4292640"/>
            <a:ext cx="69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 совокупность всех устройств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714400" cy="4105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16" name=""/>
          <p:cNvSpPr/>
          <p:nvPr/>
        </p:nvSpPr>
        <p:spPr>
          <a:xfrm flipH="1">
            <a:off x="2268360" y="1197000"/>
            <a:ext cx="1943280" cy="165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6206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Проц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1844640"/>
            <a:ext cx="468144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устройство для обработки информации и управления работой компьюте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395520" cy="170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3024360" cy="172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659640" y="5013360"/>
            <a:ext cx="144144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3157" t="9551" r="0" b="0"/>
          <a:stretch/>
        </p:blipFill>
        <p:spPr>
          <a:xfrm>
            <a:off x="468360" y="2708280"/>
            <a:ext cx="3384360" cy="164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2026" t="3090" r="2257" b="2229"/>
          <a:stretch/>
        </p:blipFill>
        <p:spPr>
          <a:xfrm>
            <a:off x="5510160" y="260280"/>
            <a:ext cx="280692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287964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386080" cy="2021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3780000" y="1413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2565360"/>
            <a:ext cx="62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               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устройство  предназначенное для быстрого перемещения по экрану и выбора нужн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411280" y="1988640"/>
            <a:ext cx="93672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1989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2714760" cy="4105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25" name=""/>
          <p:cNvSpPr/>
          <p:nvPr/>
        </p:nvSpPr>
        <p:spPr>
          <a:xfrm flipH="1">
            <a:off x="2050560" y="1557360"/>
            <a:ext cx="2305080" cy="2951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263700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информация в ней хранится только во время работы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83664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Оперативная 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24000" y="620640"/>
            <a:ext cx="5286600" cy="14097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29" name=""/>
          <p:cNvSpPr/>
          <p:nvPr/>
        </p:nvSpPr>
        <p:spPr>
          <a:xfrm flipV="1">
            <a:off x="2843280" y="1844280"/>
            <a:ext cx="1008000" cy="165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500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4221000"/>
            <a:ext cx="7632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устройство для ввода информации путем нажатия клавиш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629160" cy="3504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2916360" y="2205000"/>
            <a:ext cx="2735280" cy="576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55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Монито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924280"/>
            <a:ext cx="417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- устройство визуального отображения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66240" y="388800"/>
            <a:ext cx="44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Фамилия   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125360"/>
          <a:ext cx="2239920" cy="5327640"/>
        </p:xfrm>
        <a:graphic>
          <a:graphicData uri="http://schemas.openxmlformats.org/drawingml/2006/table">
            <a:tbl>
              <a:tblPr/>
              <a:tblGrid>
                <a:gridCol w="223992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Информ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омпью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лави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роцесс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Оперативная пам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Жесткий ди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Мони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Мыш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рин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Аппаратное обеспеч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635280" y="981000"/>
          <a:ext cx="5202360" cy="5543280"/>
        </p:xfrm>
        <a:graphic>
          <a:graphicData uri="http://schemas.openxmlformats.org/drawingml/2006/table">
            <a:tbl>
              <a:tblPr/>
              <a:tblGrid>
                <a:gridCol w="520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 для ввода информации путём нажатия клавиш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, предназначенное для обработки и управления работой компьют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Знания и сведения об окружающем нас мире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ниверсальное программно управляемое  устройство для работы с информаци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 визуального отображения информ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,  предназначенное для быстрого перемещения по экрану и выбора нужной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Информация в ней хранится только во время работы компьюте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Используется для длительного хранения больших объёмов информ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овокупность всех устройств компьют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Устройство, предназначенное для вывода информации на бумаг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08000" y="189000"/>
          <a:ext cx="8928000" cy="6575400"/>
        </p:xfrm>
        <a:graphic>
          <a:graphicData uri="http://schemas.openxmlformats.org/drawingml/2006/table">
            <a:tbl>
              <a:tblPr/>
              <a:tblGrid>
                <a:gridCol w="2720880"/>
                <a:gridCol w="620712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Информ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66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Знания и сведения об окружающем нас мир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18720">
                      <a:solidFill>
                        <a:srgbClr val="6666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Компью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ниверсальное программно управляемое  устройство для работы с информ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Клави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 для ввода информации путём нажатия клави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Процесс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, предназначенное для обработки и управления работой компьюте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Оперативная памя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Информация в ней хранится только во время работы компьюте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Жесткий ди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Используется для длительного хранения больших объёмов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Мони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 визуального отображения информ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Мы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,  предназначенное для быстрого перемещения по экрану и выбора нуж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Прин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Устройство, предназначенное для вывода информации на бума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entury"/>
                        </a:rPr>
                        <a:t>Аппаратное обеспе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6666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Century"/>
                        </a:rPr>
                        <a:t>Совокупность всех устройств компьюте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6666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b4a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1557360"/>
            <a:ext cx="763272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2.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.Т. стр. 54 №1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Составить ребус на слово обозначающее название устройства компьютера или информацион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de Lat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de Lati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3640" y="4508640"/>
            <a:ext cx="5832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0066"/>
                </a:solidFill>
                <a:latin typeface="Century"/>
              </a:rPr>
              <a:t>Компьюте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85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5084640"/>
            <a:ext cx="6408720" cy="649440"/>
          </a:xfrm>
          <a:prstGeom prst="rect">
            <a:avLst/>
          </a:prstGeom>
          <a:solidFill>
            <a:srgbClr val="fcb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924280"/>
            <a:ext cx="84596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Компьюте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это универсальное программно-управляемое устройство для работы с информаци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68360" y="1988640"/>
            <a:ext cx="2592720" cy="1079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2303640" cy="6145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2187720" cy="2112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427880" y="189000"/>
            <a:ext cx="1476360" cy="2087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620640"/>
            <a:ext cx="5286600" cy="14097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5" name=""/>
          <p:cNvSpPr/>
          <p:nvPr/>
        </p:nvSpPr>
        <p:spPr>
          <a:xfrm flipV="1">
            <a:off x="1547640" y="1844280"/>
            <a:ext cx="2303640" cy="165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50028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Клавиатура</a:t>
            </a: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 – 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устройство для ввода информации путем нажатия клавиш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714400" cy="4105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68" name=""/>
          <p:cNvSpPr/>
          <p:nvPr/>
        </p:nvSpPr>
        <p:spPr>
          <a:xfrm flipH="1">
            <a:off x="2268360" y="1197000"/>
            <a:ext cx="1943280" cy="165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620640"/>
            <a:ext cx="439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Процессо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устройство для обработки информации и управления работой компьютера.</a:t>
            </a:r>
            <a:r>
              <a:rPr b="0" lang="en-US" sz="4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2714760" cy="4105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 flipH="1">
            <a:off x="2050560" y="1557360"/>
            <a:ext cx="2305080" cy="2951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836640"/>
            <a:ext cx="446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Оперативная память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информация в ней хранится только во время работы компьюте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14400" cy="4105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4" name=""/>
          <p:cNvSpPr/>
          <p:nvPr/>
        </p:nvSpPr>
        <p:spPr>
          <a:xfrm flipH="1">
            <a:off x="1907640" y="1700280"/>
            <a:ext cx="2087640" cy="144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1052640"/>
            <a:ext cx="5003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Жесткий диск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используется для длительного хранения больших объёмов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629160" cy="3504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916360" y="2205000"/>
            <a:ext cx="2735280" cy="576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557360"/>
            <a:ext cx="561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entury"/>
              </a:rPr>
              <a:t>Монитор</a:t>
            </a: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 – устройство визуального отображения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5:26:24Z</dcterms:created>
  <dc:creator>Хозяин</dc:creator>
  <dc:description/>
  <dc:language>en-US</dc:language>
  <cp:lastModifiedBy>Elena</cp:lastModifiedBy>
  <dcterms:modified xsi:type="dcterms:W3CDTF">2010-02-23T13:34:17Z</dcterms:modified>
  <cp:revision>14</cp:revision>
  <dc:subject/>
  <dc:title>Слайд 1</dc:title>
</cp:coreProperties>
</file>